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9843-B061-488A-AE8B-7183F1370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9117-A73D-4471-BFD8-B71340F7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65D7-A30E-4989-AAD4-D27711B71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8530-1F17-4D52-8812-F50D068E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E22D-0DFB-480C-BBFC-F49B31AA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D182-64AC-4567-B8A3-3A8233D5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9325-808B-4959-9960-6BEBC011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7B05-CDD6-4236-802F-CD05BA00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5437-2424-477B-898A-D4D50853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C1C6-FDD4-4886-968E-891C3AC1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3188-88B1-4A29-A9AE-5B95ABF2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2C75-E78A-4467-80DD-4959E719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B551-7E8B-4462-A6D0-A3AEB309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1144-A7DC-4727-BCDA-77894F9C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6AE0-5CA0-4112-83E5-5C1E68C8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D719-8B6F-4FEF-9DE6-B5A160BF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507D-F182-4FCE-B936-48BBD6B35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CB20-40EA-4FCE-91AC-89DB88C1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F7F5-0E51-45DC-92DA-44205F61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B223-4158-4571-9E31-542B621F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569B-D001-4F38-9885-CCD183E4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8771-5E60-4A04-820D-B8F8D4DB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9782-BDAB-4E8E-96B1-237304B2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982C-0719-46FA-AE43-00866D3C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2D4A-3E0B-46A5-8179-2A26F01391AB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D427-7419-434C-8671-CC98FF0097D8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Entidade delegatária para a Agência de Águ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042920" y="3728880"/>
            <a:ext cx="7058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oposta aprovada pelos Comitês PCJ em 21/10/2005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dições Gera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2060640"/>
            <a:ext cx="83516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Entidade Delegatária: Consórcio PCJ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Prazo determinado: até 2 ano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Escritório Regional em Piracicaba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argos e estrutura próprios p/ as funções delegada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omponentes da direção submetidos à CT-PL e Plenários PCJ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Orientação dos trabalhos: CT-PL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dições Gera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2060640"/>
            <a:ext cx="835164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Estrutura da Direção: Coordenador Geral; Coordenador Técnico e Coordenador Adm./Financ.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Primeira atribuição: criação da “Agência PCJ”; processo seletivo para funcionamento da Agência PCJ e escolha da sed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Outras atribuições de Agência de Água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Parcerias para desenvolver as suas atividade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Não será a Secretaria Executiva, mas apoiará suas atividade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Trabalho conjunto SE e ED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11:28:47Z</dcterms:created>
  <dc:creator>lmoretti</dc:creator>
  <dc:description/>
  <dc:language>en-US</dc:language>
  <cp:lastModifiedBy>Windows</cp:lastModifiedBy>
  <dcterms:modified xsi:type="dcterms:W3CDTF">2005-11-06T19:49:47Z</dcterms:modified>
  <cp:revision>17</cp:revision>
  <dc:subject/>
  <dc:title>Cobrança pelo uso das águas</dc:title>
</cp:coreProperties>
</file>